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3A4-CB70-4B8D-AD8D-C69FDA23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7E8-5B1E-47B5-B6E9-51EB6826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A76-2B73-4405-A36B-0D83D45D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024-DEB7-4D55-97B4-ABD5DBC4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B08-68B8-40B3-91D5-9793526A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216-BFE0-423C-B86E-1EE41E3F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54A-8D3E-4989-8F21-9FE45F8E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936-DF56-44D8-AC57-81C1CB95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484-134A-4FEF-9DE4-C81E045F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E4BE-6A53-4688-ACBF-BB548081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624-3F0C-4C06-9054-A820C0CB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B0C-0C1B-453C-B4D5-6619656E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40DC-FB29-4B2D-A7D6-587EB5ACB9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1648800" y="-31320"/>
            <a:ext cx="727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CENTRAL IDEA:                                               Name: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THE LANGUAGE AND TECHNIQUES OF PERSUASION AFFECTS THE WAY WE THINK FEEL AND A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j0223784"/>
          <p:cNvPicPr/>
          <p:nvPr/>
        </p:nvPicPr>
        <p:blipFill>
          <a:blip r:embed="rId1"/>
          <a:stretch/>
        </p:blipFill>
        <p:spPr>
          <a:xfrm>
            <a:off x="214200" y="642960"/>
            <a:ext cx="895320" cy="723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1143000" y="650160"/>
            <a:ext cx="3000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WHITE HAT:  THE FACTS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What are some forms of persuasion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6"/>
          <p:cNvSpPr/>
          <p:nvPr/>
        </p:nvSpPr>
        <p:spPr>
          <a:xfrm flipV="1" rot="10800000">
            <a:off x="5571720" y="5724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RED HAT:  FEELINGS- How does persuasion affect the way we fee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j0234737"/>
          <p:cNvPicPr/>
          <p:nvPr/>
        </p:nvPicPr>
        <p:blipFill>
          <a:blip r:embed="rId2"/>
          <a:stretch/>
        </p:blipFill>
        <p:spPr>
          <a:xfrm>
            <a:off x="4643280" y="500040"/>
            <a:ext cx="714600" cy="7524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j0217794"/>
          <p:cNvPicPr/>
          <p:nvPr/>
        </p:nvPicPr>
        <p:blipFill>
          <a:blip r:embed="rId3"/>
          <a:stretch/>
        </p:blipFill>
        <p:spPr>
          <a:xfrm>
            <a:off x="4643280" y="3643200"/>
            <a:ext cx="785880" cy="733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30"/>
          <p:cNvSpPr/>
          <p:nvPr/>
        </p:nvSpPr>
        <p:spPr>
          <a:xfrm flipH="1">
            <a:off x="4498560" y="642960"/>
            <a:ext cx="1800" cy="621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32"/>
          <p:cNvSpPr/>
          <p:nvPr/>
        </p:nvSpPr>
        <p:spPr>
          <a:xfrm>
            <a:off x="0" y="3429000"/>
            <a:ext cx="45007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37"/>
          <p:cNvSpPr/>
          <p:nvPr/>
        </p:nvSpPr>
        <p:spPr>
          <a:xfrm>
            <a:off x="4500720" y="3429000"/>
            <a:ext cx="46432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5572080" y="3644280"/>
            <a:ext cx="3286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MS Mincho"/>
              </a:rPr>
              <a:t>POSITIVE ASPECTS- In what ways can persuasion be positive? ( give examples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1071720" y="3643200"/>
            <a:ext cx="3357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MS Mincho"/>
              </a:rPr>
              <a:t>WHITE HAT:  What are some techniques that advertisers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MS Mincho"/>
              </a:rPr>
              <a:t>use to persuade others to buy their produ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j0223784"/>
          <p:cNvPicPr/>
          <p:nvPr/>
        </p:nvPicPr>
        <p:blipFill>
          <a:blip r:embed="rId4"/>
          <a:stretch/>
        </p:blipFill>
        <p:spPr>
          <a:xfrm>
            <a:off x="142920" y="3643200"/>
            <a:ext cx="8953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j0212619"/>
          <p:cNvPicPr/>
          <p:nvPr/>
        </p:nvPicPr>
        <p:blipFill>
          <a:blip r:embed="rId1"/>
          <a:stretch/>
        </p:blipFill>
        <p:spPr>
          <a:xfrm>
            <a:off x="0" y="3429000"/>
            <a:ext cx="853920" cy="714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928800" y="343044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MS Mincho"/>
              </a:rPr>
              <a:t>GREEN HAT – Think of a creative way to convince a bully to leave your friend al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j0232733"/>
          <p:cNvPicPr/>
          <p:nvPr/>
        </p:nvPicPr>
        <p:blipFill>
          <a:blip r:embed="rId2"/>
          <a:stretch/>
        </p:blipFill>
        <p:spPr>
          <a:xfrm>
            <a:off x="5715000" y="357120"/>
            <a:ext cx="140508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4714920" y="1719720"/>
            <a:ext cx="40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BLUE HAT – Your overall opin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How has learning about persuasion/advertising influenced your think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  <a:ea typeface="MS Mincho"/>
              </a:rPr>
              <a:t>How has it affected the way you might act in the fut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8"/>
          <p:cNvSpPr/>
          <p:nvPr/>
        </p:nvSpPr>
        <p:spPr>
          <a:xfrm flipH="1">
            <a:off x="4428720" y="0"/>
            <a:ext cx="180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j0188515"/>
          <p:cNvPicPr/>
          <p:nvPr/>
        </p:nvPicPr>
        <p:blipFill>
          <a:blip r:embed="rId3"/>
          <a:stretch/>
        </p:blipFill>
        <p:spPr>
          <a:xfrm>
            <a:off x="142920" y="142920"/>
            <a:ext cx="857160" cy="960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0"/>
          <p:cNvSpPr/>
          <p:nvPr/>
        </p:nvSpPr>
        <p:spPr>
          <a:xfrm>
            <a:off x="1143000" y="142920"/>
            <a:ext cx="328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MS Mincho"/>
              </a:rPr>
              <a:t>NEGATIVE ASPECTS- How can persuasion be negative?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MS Mincho"/>
              </a:rPr>
              <a:t>( give examp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2"/>
          <p:cNvSpPr/>
          <p:nvPr/>
        </p:nvSpPr>
        <p:spPr>
          <a:xfrm flipH="1" flipV="1">
            <a:off x="-360" y="3357720"/>
            <a:ext cx="4429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4:11:41Z</dcterms:created>
  <dc:creator>cgeschei</dc:creator>
  <dc:description/>
  <dc:language>en-US</dc:language>
  <cp:lastModifiedBy>cgeschei</cp:lastModifiedBy>
  <dcterms:modified xsi:type="dcterms:W3CDTF">2008-09-18T02:26:42Z</dcterms:modified>
  <cp:revision>4</cp:revision>
  <dc:subject/>
  <dc:title>Slide 1</dc:title>
</cp:coreProperties>
</file>